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919-83CE-48E3-BCA7-F866A484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C35-516C-43E0-9B41-0CA3476F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BD8-5DD6-426E-B131-F94F6C42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FF8-7F3F-4FBA-A242-E625C2B5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825-6AB2-48D6-B147-0A5DD53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BCB-7B95-409D-97F2-82DCD96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565-9860-453B-A6AD-7E83717F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B37-0FF4-4AA4-9275-3D9EED3C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867-BA61-4ABE-AE93-E2FF172F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046-3557-415F-8A79-42A5C60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047-41D3-4D56-A59F-CD62BD9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FC3-56CD-46A4-94BD-B259444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F99A-1859-4D6C-8F16-F5430ADCD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comic"/>
              </a:rPr>
              <a:t>Классификация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Organization Chart 52"/>
          <p:cNvGrpSpPr/>
          <p:nvPr/>
        </p:nvGrpSpPr>
        <p:grpSpPr>
          <a:xfrm>
            <a:off x="395280" y="1268280"/>
            <a:ext cx="8209080" cy="5039280"/>
            <a:chOff x="395280" y="1268280"/>
            <a:chExt cx="8209080" cy="5039280"/>
          </a:xfrm>
        </p:grpSpPr>
        <p:cxnSp>
          <p:nvCxnSpPr>
            <p:cNvPr id="43" name="_s1028"/>
            <p:cNvCxnSpPr>
              <a:stCxn id="44" idx="0"/>
              <a:endCxn id="45" idx="2"/>
            </p:cNvCxnSpPr>
            <p:nvPr/>
          </p:nvCxnSpPr>
          <p:spPr>
            <a:xfrm flipV="1" rot="16200000">
              <a:off x="6987600" y="4031280"/>
              <a:ext cx="630720" cy="140292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1029"/>
            <p:cNvCxnSpPr>
              <a:stCxn id="47" idx="0"/>
              <a:endCxn id="45" idx="2"/>
            </p:cNvCxnSpPr>
            <p:nvPr/>
          </p:nvCxnSpPr>
          <p:spPr>
            <a:xfrm flipV="1" rot="16200000">
              <a:off x="6286680" y="4732200"/>
              <a:ext cx="630720" cy="108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30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5585400" y="4032000"/>
              <a:ext cx="630720" cy="140148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1"/>
            <p:cNvCxnSpPr>
              <a:stCxn id="51" idx="0"/>
              <a:endCxn id="52" idx="2"/>
            </p:cNvCxnSpPr>
            <p:nvPr/>
          </p:nvCxnSpPr>
          <p:spPr>
            <a:xfrm flipV="1" rot="16200000">
              <a:off x="2782440" y="4031280"/>
              <a:ext cx="630720" cy="140256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2"/>
            <p:cNvCxnSpPr>
              <a:stCxn id="54" idx="0"/>
              <a:endCxn id="52" idx="2"/>
            </p:cNvCxnSpPr>
            <p:nvPr/>
          </p:nvCxnSpPr>
          <p:spPr>
            <a:xfrm flipV="1" rot="16200000">
              <a:off x="2081520" y="4732200"/>
              <a:ext cx="630720" cy="72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3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1380600" y="4032360"/>
              <a:ext cx="630720" cy="140112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4"/>
            <p:cNvCxnSpPr>
              <a:stCxn id="45" idx="0"/>
              <a:endCxn id="58" idx="2"/>
            </p:cNvCxnSpPr>
            <p:nvPr/>
          </p:nvCxnSpPr>
          <p:spPr>
            <a:xfrm flipV="1" rot="16200000">
              <a:off x="5234400" y="1791000"/>
              <a:ext cx="630360" cy="210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5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132000" y="1792440"/>
              <a:ext cx="630360" cy="210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1036"/>
            <p:cNvSpPr/>
            <p:nvPr/>
          </p:nvSpPr>
          <p:spPr>
            <a:xfrm>
              <a:off x="3896640" y="1268280"/>
              <a:ext cx="1202400" cy="1259640"/>
            </a:xfrm>
            <a:custGeom>
              <a:avLst/>
              <a:gdLst>
                <a:gd name="textAreaLeft" fmla="*/ 58680 w 1202400"/>
                <a:gd name="textAreaRight" fmla="*/ 1143720 w 1202400"/>
                <a:gd name="textAreaTop" fmla="*/ 58680 h 1259640"/>
                <a:gd name="textAreaBottom" fmla="*/ 1200960 h 1259640"/>
              </a:gdLst>
              <a:ahLst/>
              <a:rect l="textAreaLeft" t="textAreaTop" r="textAreaRight" b="textAreaBottom"/>
              <a:pathLst>
                <a:path w="21600" h="22628">
                  <a:moveTo>
                    <a:pt x="3600" y="0"/>
                  </a:moveTo>
                  <a:arcTo wR="3600" hR="3600" stAng="16200000" swAng="-5400000"/>
                  <a:lnTo>
                    <a:pt x="0" y="19028"/>
                  </a:lnTo>
                  <a:arcTo wR="3600" hR="3600" stAng="10800000" swAng="-5400000"/>
                  <a:lnTo>
                    <a:pt x="18000" y="22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Arial"/>
                </a:rPr>
                <a:t>уравне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7"/>
            <p:cNvSpPr/>
            <p:nvPr/>
          </p:nvSpPr>
          <p:spPr>
            <a:xfrm>
              <a:off x="1795320" y="3157920"/>
              <a:ext cx="1202400" cy="1259640"/>
            </a:xfrm>
            <a:custGeom>
              <a:avLst/>
              <a:gdLst>
                <a:gd name="textAreaLeft" fmla="*/ 58680 w 1202400"/>
                <a:gd name="textAreaRight" fmla="*/ 1143720 w 1202400"/>
                <a:gd name="textAreaTop" fmla="*/ 58680 h 1259640"/>
                <a:gd name="textAreaBottom" fmla="*/ 1200960 h 1259640"/>
              </a:gdLst>
              <a:ahLst/>
              <a:rect l="textAreaLeft" t="textAreaTop" r="textAreaRight" b="textAreaBottom"/>
              <a:pathLst>
                <a:path w="21600" h="22628">
                  <a:moveTo>
                    <a:pt x="3600" y="0"/>
                  </a:moveTo>
                  <a:arcTo wR="3600" hR="3600" stAng="16200000" swAng="-5400000"/>
                  <a:lnTo>
                    <a:pt x="0" y="19028"/>
                  </a:lnTo>
                  <a:arcTo wR="3600" hR="3600" stAng="10800000" swAng="-5400000"/>
                  <a:lnTo>
                    <a:pt x="18000" y="22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лгебра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8"/>
            <p:cNvSpPr/>
            <p:nvPr/>
          </p:nvSpPr>
          <p:spPr>
            <a:xfrm>
              <a:off x="6000120" y="3157920"/>
              <a:ext cx="1202400" cy="1259640"/>
            </a:xfrm>
            <a:custGeom>
              <a:avLst/>
              <a:gdLst>
                <a:gd name="textAreaLeft" fmla="*/ 58680 w 1202400"/>
                <a:gd name="textAreaRight" fmla="*/ 1143720 w 1202400"/>
                <a:gd name="textAreaTop" fmla="*/ 58680 h 1259640"/>
                <a:gd name="textAreaBottom" fmla="*/ 1200960 h 1259640"/>
              </a:gdLst>
              <a:ahLst/>
              <a:rect l="textAreaLeft" t="textAreaTop" r="textAreaRight" b="textAreaBottom"/>
              <a:pathLst>
                <a:path w="21600" h="22628">
                  <a:moveTo>
                    <a:pt x="3600" y="0"/>
                  </a:moveTo>
                  <a:arcTo wR="3600" hR="3600" stAng="16200000" swAng="-5400000"/>
                  <a:lnTo>
                    <a:pt x="0" y="19028"/>
                  </a:lnTo>
                  <a:arcTo wR="3600" hR="3600" stAng="10800000" swAng="-5400000"/>
                  <a:lnTo>
                    <a:pt x="18000" y="22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рансц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н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9"/>
            <p:cNvSpPr/>
            <p:nvPr/>
          </p:nvSpPr>
          <p:spPr>
            <a:xfrm>
              <a:off x="395280" y="5047920"/>
              <a:ext cx="1200960" cy="125964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1259640"/>
                <a:gd name="textAreaBottom" fmla="*/ 1201320 h 1259640"/>
              </a:gdLst>
              <a:ahLst/>
              <a:rect l="textAreaLeft" t="textAreaTop" r="textAreaRight" b="textAreaBottom"/>
              <a:pathLst>
                <a:path w="21600" h="22655">
                  <a:moveTo>
                    <a:pt x="3600" y="0"/>
                  </a:moveTo>
                  <a:arcTo wR="3600" hR="3600" stAng="16200000" swAng="-5400000"/>
                  <a:lnTo>
                    <a:pt x="0" y="19055"/>
                  </a:lnTo>
                  <a:arcTo wR="3600" hR="3600" stAng="10800000" swAng="-5400000"/>
                  <a:lnTo>
                    <a:pt x="18000" y="2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Цел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40"/>
            <p:cNvSpPr/>
            <p:nvPr/>
          </p:nvSpPr>
          <p:spPr>
            <a:xfrm>
              <a:off x="1796400" y="5047920"/>
              <a:ext cx="1200960" cy="125568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1255680"/>
                <a:gd name="textAreaBottom" fmla="*/ 1197360 h 1255680"/>
              </a:gdLst>
              <a:ahLst/>
              <a:rect l="textAreaLeft" t="textAreaTop" r="textAreaRight" b="textAreaBottom"/>
              <a:pathLst>
                <a:path w="21600" h="22584">
                  <a:moveTo>
                    <a:pt x="3600" y="0"/>
                  </a:moveTo>
                  <a:arcTo wR="3600" hR="3600" stAng="16200000" swAng="-5400000"/>
                  <a:lnTo>
                    <a:pt x="0" y="18984"/>
                  </a:lnTo>
                  <a:arcTo wR="3600" hR="3600" stAng="10800000" swAng="-5400000"/>
                  <a:lnTo>
                    <a:pt x="18000" y="22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роб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41"/>
            <p:cNvSpPr/>
            <p:nvPr/>
          </p:nvSpPr>
          <p:spPr>
            <a:xfrm>
              <a:off x="3198240" y="5047920"/>
              <a:ext cx="1200960" cy="125568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1255680"/>
                <a:gd name="textAreaBottom" fmla="*/ 1197360 h 1255680"/>
              </a:gdLst>
              <a:ahLst/>
              <a:rect l="textAreaLeft" t="textAreaTop" r="textAreaRight" b="textAreaBottom"/>
              <a:pathLst>
                <a:path w="21600" h="22584">
                  <a:moveTo>
                    <a:pt x="3600" y="0"/>
                  </a:moveTo>
                  <a:arcTo wR="3600" hR="3600" stAng="16200000" swAng="-5400000"/>
                  <a:lnTo>
                    <a:pt x="0" y="18984"/>
                  </a:lnTo>
                  <a:arcTo wR="3600" hR="3600" stAng="10800000" swAng="-5400000"/>
                  <a:lnTo>
                    <a:pt x="18000" y="22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рраци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42"/>
            <p:cNvSpPr/>
            <p:nvPr/>
          </p:nvSpPr>
          <p:spPr>
            <a:xfrm>
              <a:off x="4599720" y="5047920"/>
              <a:ext cx="1200960" cy="125568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1255680"/>
                <a:gd name="textAreaBottom" fmla="*/ 1197360 h 1255680"/>
              </a:gdLst>
              <a:ahLst/>
              <a:rect l="textAreaLeft" t="textAreaTop" r="textAreaRight" b="textAreaBottom"/>
              <a:pathLst>
                <a:path w="21600" h="22584">
                  <a:moveTo>
                    <a:pt x="3600" y="0"/>
                  </a:moveTo>
                  <a:arcTo wR="3600" hR="3600" stAng="16200000" swAng="-5400000"/>
                  <a:lnTo>
                    <a:pt x="0" y="18984"/>
                  </a:lnTo>
                  <a:arcTo wR="3600" hR="3600" stAng="10800000" swAng="-5400000"/>
                  <a:lnTo>
                    <a:pt x="18000" y="22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риго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етри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43"/>
            <p:cNvSpPr/>
            <p:nvPr/>
          </p:nvSpPr>
          <p:spPr>
            <a:xfrm>
              <a:off x="6001560" y="5047920"/>
              <a:ext cx="1200960" cy="125568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1255680"/>
                <a:gd name="textAreaBottom" fmla="*/ 1197360 h 1255680"/>
              </a:gdLst>
              <a:ahLst/>
              <a:rect l="textAreaLeft" t="textAreaTop" r="textAreaRight" b="textAreaBottom"/>
              <a:pathLst>
                <a:path w="21600" h="22584">
                  <a:moveTo>
                    <a:pt x="3600" y="0"/>
                  </a:moveTo>
                  <a:arcTo wR="3600" hR="3600" stAng="16200000" swAng="-5400000"/>
                  <a:lnTo>
                    <a:pt x="0" y="18984"/>
                  </a:lnTo>
                  <a:arcTo wR="3600" hR="3600" stAng="10800000" swAng="-5400000"/>
                  <a:lnTo>
                    <a:pt x="18000" y="22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Логариф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44"/>
            <p:cNvSpPr/>
            <p:nvPr/>
          </p:nvSpPr>
          <p:spPr>
            <a:xfrm>
              <a:off x="7403400" y="5047920"/>
              <a:ext cx="1200960" cy="125568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1255680"/>
                <a:gd name="textAreaBottom" fmla="*/ 1197360 h 1255680"/>
              </a:gdLst>
              <a:ahLst/>
              <a:rect l="textAreaLeft" t="textAreaTop" r="textAreaRight" b="textAreaBottom"/>
              <a:pathLst>
                <a:path w="21600" h="22584">
                  <a:moveTo>
                    <a:pt x="3600" y="0"/>
                  </a:moveTo>
                  <a:arcTo wR="3600" hR="3600" stAng="16200000" swAng="-5400000"/>
                  <a:lnTo>
                    <a:pt x="0" y="18984"/>
                  </a:lnTo>
                  <a:arcTo wR="3600" hR="3600" stAng="10800000" swAng="-5400000"/>
                  <a:lnTo>
                    <a:pt x="18000" y="22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каз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те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иды уравнений высших степе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2305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Уравнения третьей степ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203640" y="2421000"/>
            <a:ext cx="230508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Уравнения четвертой степ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012000" y="2421000"/>
            <a:ext cx="230508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Уравнения пятой степ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564000" y="3789360"/>
            <a:ext cx="230508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Возвратные урав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300720" y="3789360"/>
            <a:ext cx="266400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Однородные урав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24000" y="3860640"/>
            <a:ext cx="28098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Биквадратные урав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Способы решения уравнений высших степе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2308320"/>
            <a:ext cx="3816360" cy="1155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зложение многочлена на множ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148360" y="2133720"/>
            <a:ext cx="3816360" cy="118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Метод замены переменной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700360" y="3860640"/>
            <a:ext cx="3816360" cy="118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Функционально-графический мет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1835280" y="1413000"/>
            <a:ext cx="2016000" cy="792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5435640" y="1413000"/>
            <a:ext cx="1584360" cy="792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4572000" y="1413000"/>
            <a:ext cx="0" cy="23763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азложение на множ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384720" cy="118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особ групп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292720" y="1628640"/>
            <a:ext cx="316872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По формулам сокращенного умн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84360" y="3789360"/>
            <a:ext cx="3095640" cy="118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По теореме Бе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219640" y="3716280"/>
            <a:ext cx="3095640" cy="118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хема Горн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Метод замены перемен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743280" cy="96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иквадратны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716360" y="2060640"/>
            <a:ext cx="3743280" cy="96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Возвратные урав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68360" y="3500280"/>
            <a:ext cx="3816360" cy="230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Уравнения, в которых выделяются одинаковые многочле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8:27:54Z</dcterms:created>
  <dc:creator>Admin</dc:creator>
  <dc:description/>
  <dc:language>en-US</dc:language>
  <cp:lastModifiedBy>Windows User</cp:lastModifiedBy>
  <dcterms:modified xsi:type="dcterms:W3CDTF">2018-02-17T13:40:38Z</dcterms:modified>
  <cp:revision>4</cp:revision>
  <dc:subject/>
  <dc:title>sfasf</dc:title>
</cp:coreProperties>
</file>